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A28-1173-4881-B600-28408C26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3964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1B0-296D-4915-B527-1E6DCB18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564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C63-DA03-4BD1-8723-EC2AC113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04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536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04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536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BADB-D69F-48A4-96C6-287D98AA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79280"/>
            <a:ext cx="88502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7FE-EE00-4BC8-824C-2669F027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88502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2D5-31DF-418B-9343-029F13A6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7AA6-C279-4D2B-98AB-4057882E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541-E369-410B-BD54-AE4A9C06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D18-EDA4-418F-8472-9F079F04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3C11-E51D-40D4-ADD0-9286FB1E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564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03E4-CBFB-47C5-B285-A31A2E13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20E-A15D-41E9-BD63-A6075FE6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979280"/>
            <a:ext cx="88502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360" y="656244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55720" y="656244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35360" y="656244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F788E-E57A-4F7A-A6EA-B4AB1042529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4/45/MtRedoubtedit1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en/5/52/Emblem_of_the_United_Nations.svg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1720" y="2535120"/>
            <a:ext cx="90694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</a:rPr>
              <a:t>14.5</a:t>
            </a:r>
            <a:br>
              <a:rPr sz="5400"/>
            </a:br>
            <a:r>
              <a:rPr b="0" lang="en-US" sz="5400" spc="-1" strike="noStrike">
                <a:solidFill>
                  <a:srgbClr val="280099"/>
                </a:solidFill>
                <a:latin typeface="Arial"/>
              </a:rPr>
              <a:t>The War End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1979640"/>
            <a:ext cx="4319640" cy="41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736640" y="685800"/>
            <a:ext cx="695016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685800"/>
            <a:ext cx="6400800" cy="60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. Iwo Jima, cont.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196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Invaded due to location, between Tokyo and U.S. base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2. Terrain was difficult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256360" y="1979640"/>
            <a:ext cx="4319280" cy="4138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029200" y="1371600"/>
            <a:ext cx="457200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. Firebombing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Bombs filled with napalm now being used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. More destructive because they also start fires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2. Use of the firebombs were controversial due to the death of civilians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3. 67 cities in Japan bombed by the end of the war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G. Okinawa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1. U.S. Troops invaded on April 1st, 1945.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2. Troops had to deal with mountains instead of beaches.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3. Okinawa finally captured on June 22nd, 1945.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H. Atomic Bomb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1964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Manhattan Projec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. Oppenheimer; lead scientist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b.Developed atomic bomb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. After testing the bomb was found to be more powerful than thought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. Bomb was tested in New Mexico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256360" y="1979640"/>
            <a:ext cx="4319280" cy="4138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762520" y="1600200"/>
            <a:ext cx="338148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569960"/>
            <a:ext cx="5257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0000"/>
          </a:bodyPr>
          <a:p>
            <a:pPr marL="596880" indent="-594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bomb or not to bomb?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934200" indent="-51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Some against it, immoral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934200" indent="-51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Some believe it should be used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2093040" indent="-44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n the Soviet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2093040" indent="-44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built, use it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2093040" indent="-44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expensiv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934200" indent="-519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ruman approves the use of the bomb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2093040" indent="-44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ved every weapon should be used to save American lives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21440" y="1979280"/>
            <a:ext cx="43495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80" name="" descr="File:MtRedoubtedit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88040" y="1951200"/>
            <a:ext cx="47926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3. Hiroshima and Nagasaki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. Bomb dropped on August 6th, 1945 on Hiroshima; Japan does not surrender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b. August 9th, 1945: second bomb dropped on Nagasaki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. Hirohito surrenders to Gen. MacArthur on September 2nd, 1945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56360" y="1979640"/>
            <a:ext cx="4319280" cy="413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105520" y="2038320"/>
            <a:ext cx="4724280" cy="39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74640" y="1371600"/>
            <a:ext cx="892656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I. United Nations Formed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2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rganization composed of countries willing to discuss matters before going to war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. General Assembly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b. Security Council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88" name="" descr="File:Emblem of the United Nations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6840" y="2789280"/>
            <a:ext cx="5200560" cy="44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A. Battle of the Bulg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196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-Last German Offensive, December 1944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. Started to keep Allies from Antwerp, Belgium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. Allies caught off guard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. Allies hit Germans hard, Germans were unable to recover from then on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256360" y="1979640"/>
            <a:ext cx="4319280" cy="4138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57800" y="182880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J. Nuremberg Trial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852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Trial of Nazi leaders in Nuremberg, Germany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057400" y="2073240"/>
            <a:ext cx="5867280" cy="47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B. FDR passes away, April 12</a:t>
            </a:r>
            <a:r>
              <a:rPr b="0" lang="en-US" sz="4400" spc="-1" strike="noStrike" baseline="33000">
                <a:solidFill>
                  <a:srgbClr val="280099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 1945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20360" y="2068200"/>
            <a:ext cx="88534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8001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Harry Truman becomes President.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20360" y="2068200"/>
            <a:ext cx="88534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981160" y="1832040"/>
            <a:ext cx="3648240" cy="45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. The War ends in Europ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7360" y="1828800"/>
            <a:ext cx="8853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1. U.S. And Soviet troops able to breech German lines.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2. Hitler, and his wife, commit suicide on April 30th, 1945.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0" y="457200"/>
            <a:ext cx="57150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D. V-E Day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196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Victory in Europ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2. May 8th, 1945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3. U.S. continues with their battle in the Pacific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256360" y="1979640"/>
            <a:ext cx="4319280" cy="4138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715000" y="1600200"/>
            <a:ext cx="361800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. Iwo Jima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6400800" cy="57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0" y="457200"/>
            <a:ext cx="5465880" cy="6583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2:26:04Z</dcterms:created>
  <dc:creator>Courtney Huro</dc:creator>
  <dc:description>Presentation Layout Template</dc:description>
  <dc:language>en-US</dc:language>
  <cp:lastModifiedBy>School District U46</cp:lastModifiedBy>
  <dcterms:modified xsi:type="dcterms:W3CDTF">2011-02-10T14:23:20Z</dcterms:modified>
  <cp:revision>4</cp:revision>
  <dc:subject/>
  <dc:title>Blue Border</dc:title>
</cp:coreProperties>
</file>